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38AD-C410-4D59-9121-D2E7F7304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2E2C-BC7A-4F7C-BD92-A4A9A092A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0D4842-0D6C-4198-815A-BF5154090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D54CC5-8014-4B42-9031-AE87460A5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188215-E29A-4506-8A03-52AE9B25C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59076B-BABF-444E-8737-1E7E9AF6B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E321B2-84D8-40CA-BC09-910FC62E2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3CC89A-D984-4822-88CD-5801094BA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EA73C7-03EC-478C-93BF-3861333F8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F1BE6E-18FC-4AFB-BD62-53B38853C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488761-2615-48C3-AA83-D717444DA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F4A880-9A4C-4174-8626-3F5F5DE17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F206-9CFC-4EAE-A5A4-D72EDA677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93A53B-4C0D-4650-8B8C-1061F1A8E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2AAA96-7AC2-4853-971D-7AE7DE44E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33AB49-2A72-44EA-A180-A05921B07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FAA7B3-DF98-4550-98A5-1D9630BAB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A5F295-A5AF-40C2-873C-C8DA90B42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2A6A75-D5E4-4FA3-84B4-CCA28078B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20B346-AF8A-467E-B7D4-C6F60834B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D49A98-11DB-4C53-8587-3223B60D9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2BB37A-5795-46AE-B177-23B4318CD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26210A-A83A-4F65-A8B2-1EE087C6B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3171-13D9-426D-B760-860A81C5A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AE253E-207A-4E46-B650-B0CA8F5C1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ABD515-76EA-4089-91BA-25F7B2925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412FE2-D958-46EC-A71C-44C908EF3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E87D41-0ACF-41E6-9C11-035B373E7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ADC90A-AD4F-4EDD-811C-CD8DE06B9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AA9AD6-73AB-4904-8AC5-C6846FC5F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2714F8-5D8A-42CC-A4B6-44A1E333F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848DD6-B5B6-4FD0-B819-BD362CC7B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208270-2637-4843-AAD0-2E11A3E7B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3EAA4A-7F63-4E3E-B1AA-B917F8A59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759B8-D1EF-473F-A5BC-10EE38034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A58E16-26B8-492C-AA6C-9C366FAE7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FD1858-658F-4164-839B-AC5D15624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7C6E81-073C-40F2-BCF4-A98B6367D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A022D9-0280-41FC-B099-056507744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988C90-14F0-4E9D-865D-64CF0E092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E0F377-5F7C-4A54-BBD6-10B0CEB9B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022AB4-2688-4DF9-ACEC-4B0DBA836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B1075E-5CFB-4218-A547-3B9384B99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7B5279-8518-42D8-9850-6625D9F78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0A33A9-C6D8-4D97-8515-A74AE3A17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78FBF-F256-4FF1-9122-5FEE3BA37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DCFF15-530C-4891-8C42-A3B19CCCB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F5E681-64CC-4EC7-ACAD-F3B9BAE3B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E5FED6-348D-4BCE-974E-3BEFFC7BE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5F6B67-5B3B-48FF-B23F-3FEA36368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FF2F87-B2D0-4AD2-A0CA-20B1A58BD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345AB-2BEE-4AAC-8D33-1B3A388C1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A934B-B6E2-41AA-B34F-A085A34F7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4BE62-85FB-4DD3-BF6B-3F67F3C2B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A1C2D-CA64-4614-9C30-43E157A2B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D7B12-3E54-4BB7-A997-AEBA4ABE6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1512-907D-4672-867E-5E655E75D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8D013-6492-44F8-8193-3DC31BC3E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26D9A-6898-46EB-B057-1C89B2BDA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50856-D009-4C20-9F76-BA53B0A7C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6ED65-4A9E-45A3-B0D3-29A400F39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58DA7-9301-42B5-A21E-8A9384ACD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B32EA6-3F76-4302-9647-A5DB8DBEA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569D92-FC62-4B2F-B73D-021665C7D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055E35-E721-452A-BCBB-9209FCADB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87C7F6-E3D3-448C-8C71-534EAA50D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938C48-3A52-4F73-97CE-7922AF714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99BF-8AE5-47E0-BC9C-65BA09F00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D6CB35-6277-48D6-BFD5-FF79E97F5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711CE9-FCCB-49F3-871C-6E3E023F9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B87AE0-5358-4800-B840-A104DF971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B0226F-01A9-441B-B4EC-667F21FF9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31FECE-3D9F-4CFB-ACA7-91324657B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DE780F-C23D-4BBB-980B-30D6AEE0E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E06DC8-8161-404F-B290-E4FF5E7C4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715FFA-55D6-43F3-8F84-42BDE9171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66FC79-0259-4795-B9EC-72BCEB206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099CB5-1412-4AD8-AB76-3C0523DE7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2015-BF34-4B99-BDAC-5D24707D8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045894-C577-4FE6-88F2-D9AF6F807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0576CF-D6DB-4ECD-A411-715764B57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895F07-53EC-45F9-BB55-401F515EC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0F8E38-EB01-4350-90EE-789760B2B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70DDE3-F810-4AED-9DA9-56C26E78D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51A37F-345A-4AA0-A152-0FF0172B6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7D4808-3892-4701-AEC6-C9ACB4997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1F209A-780D-41D7-AAE4-E7DC4946A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21A5D5-C448-44BD-9CFE-66D702D2F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7B88CE-A80E-4541-B7E8-561627806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EBD6-447F-4B66-8CF8-412440C7F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9DE9D4-9D37-496E-B28F-B337AF767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3226C4-1BD6-4D69-8478-CDAED6DB2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CEA514-E92A-40FF-80B9-AF161FBF8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4A9702-DE44-466D-84FA-ED79F2ECB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054AFE-983F-40AF-AD6C-557FC2A52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109A47-B7E4-47A1-BA01-5DA5A50E1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FF8112-8079-4D72-8455-8AD1CD0F4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BF9C3A-70ED-4713-99AB-7E22E497E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84CDC9-87A6-4010-8778-0105F0F9A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1274F5-CC03-4181-8FC3-7BE0DB35A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CE44-64AA-4BA9-8801-C78901C87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1917DB-6A77-4B0E-AA7D-FF2FBD7CF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2A0E77-7468-467C-AA5B-B5088EF66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EEF6E5-257D-44D9-B19D-0BFBF16C7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D36AE1-B181-4C73-9E4E-038B6A04F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5314C7-8E46-4C53-85AB-CD5C16EAE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9AC08E-FC85-424F-8FEC-92914FB5D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13C334-6746-45DF-A107-A246DF468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3A0D0E-4DC4-4D6B-BBB9-79552FDFF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E2EDC1-626B-428D-97B6-1BDB881E2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708A31-19CA-45D5-81ED-63BC9CE1E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7F41-F9B3-471B-8908-44D6182C0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D6A5C8-E4C8-4F7B-B9B2-DD7CDBEA5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157422-AE26-46F0-8EB6-F9E23A1C4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FC8B82-7373-407A-87DC-3336829C6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8C7F6C-41AA-464D-AE24-3DF9A00DB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E1B968-88EE-4E0F-979D-BE7571B77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1A903D-30EF-456F-A835-42FDFF05A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599187-B2D4-4ABE-B33F-68B73A968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B13EDD-A6A5-4D52-9DA5-0B3AC72FA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CF3E17-AF67-4687-8A1E-470E600C4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0491F8-5205-4710-A715-F7748FA0D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46B4-67DA-40AA-A389-3C9658EEA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D23BAD-F152-43C2-92BA-C51787004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27BDC4-D746-4BD6-9DBF-3E513E0DC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BF1ED5-1638-46F2-A1CE-274174AFC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F88EA1-54E3-403D-B305-FB1E70FAE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A3749A-1D0B-45B0-9199-88C808696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0D2E8E-3DAC-4F4C-99B0-513E46000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BC27DD-B038-4EAC-8E1B-83268ED50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A802AD-47FA-4D46-8AD9-38573A2EB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4C7DD3-A521-4E6E-BE5D-5CFAEF433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B25812-C283-40F1-BC81-2B5ED83A4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9A17-00DA-48CF-AEDF-BDF6AA621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53A699-7477-48D1-9E88-4FB02089D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CEFCE5-83C3-4F90-9770-5EEA201FE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AA08BA-4027-4A5C-ABCE-AE43FC2FF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98EB73-49F3-4B4A-9667-D846329E3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FFCA23-662D-47C5-A780-54B885784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FEA080-A03B-4CE8-A7A9-3532474E1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EA3764-C04D-43DE-959E-C70D127E6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9D21B8-BEB5-4F67-B409-80167BA8C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57B2F6-2BE2-484F-ABEE-127BE64C9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01373E-7333-4F12-AF0C-DDC9CB3CF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A5FD8-AE44-4F25-A24A-1BD1035C6FDB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AC9E8-FF2D-4194-9E12-0389C4DAE895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5CB24-A58A-4688-8DC2-EFB6E2EE409E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66DE0-8874-4368-8C00-C8BC61C327AD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3DDEC-18A4-45E5-8E91-EDF19C970578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5E3DD-6625-4714-8CE0-7E8AF25CAE7E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10E03-D53E-46BE-B321-1B30A9AF530E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7C55E-0D40-4EF7-94F5-06C7DDB2D0E4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BC3B2-A86E-41DB-835D-E7D56D591A50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C512C-DFFD-4CEC-9F31-D85A5A71EC69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DE1CE-AE63-4078-A771-B920F61D8EB3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D2541-DA96-4567-A2EC-53107ADD5F9F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362 Keď ráno z lôžka vstáva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eď ráno z lôžka vstáva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rád spievam pieseň chvál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esť, slávu Bohu vzdáva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e dnes zase pracovať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4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ak milosti len Božej má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a čo ďakova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om slabé dieťa tvoj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eď ty to dobre vieš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y poznáš srdce moj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očistiť ho chceš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ám žehnaj moje snahy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a tebe podobať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odpusť, Pane drahý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k zarmútim ťa snáď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Ja do rúk tvojich vkladá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j tento dnešný deň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vrúcne, Pane, žiada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 pomoc teba l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keď aj trpká bolesť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iaľ v srdci rozlej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iem, že len tvoja milosť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as bôľ môj odveje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9-12T13:31:19Z</dcterms:modified>
  <cp:revision>65</cp:revision>
  <dc:subject/>
  <dc:title>Je veľký náš Pán, on slávy je Kráľ Nech do všetkých strán  spev vrúcnych znie chvál.</dc:title>
</cp:coreProperties>
</file>